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38040" y="655200"/>
            <a:ext cx="4383000" cy="328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94A7-914D-4D81-96C5-D39D69B45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D4A1-1518-4AAA-8632-D1982E899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0041-3258-4720-9612-3B4E9E66F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15AE-F62E-4E9F-A806-8C78E61C2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4132-A239-4D10-AD64-4CCCE4ABF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Summarize the contribution of the biological perspective to the study of depression, and discuss the link between suicide and de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A3D8-95DC-4ED1-B678-8430E0F77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7770-71CC-4903-A401-224523AE2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E21B-4D3F-4D0B-A23D-BB2EEE062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Summarize the contribution of the social-cognitive perspective to the study of depression, and describe the events in the cycle of de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6732-7CEE-45D5-9126-5F2CD05BC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1CEC-A54C-477A-9F41-00C830A3E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A348-E8F0-48EA-B2BD-58CD98C47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3E23-4BB5-469C-B6AF-3F0D3A28F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the symptoms of schizophrenia, and differentiate delusion and halluci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B828-849C-481D-A158-D8FCDA0F2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fin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ood disorder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contrast major depressive disorder and bipolar dis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E16E-8394-4C9B-952D-4048B5A32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1EBC-16CE-4A4C-A1CA-F0647498D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8887-8FFB-4A99-A3C1-9B6672ECD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5744-81BB-4601-BEF0-8F9489305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6C33-6509-48CB-B6B1-ED9F380DA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7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tinguish the five subtypes of schizophrenia, and contrast chronic and reactive schizophr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24C9-A607-4823-BA7C-CEABEFDC0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2EB0-526A-46FF-9EDE-2AD9FD65D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6B2D-11A4-46B3-8920-E645E3B70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1049-3035-4954-BED3-AF588378D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8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Outline some abnormal brain functions and structures associated with schizophrenia, and discuss the possible link between prenatal viral infections and schizophr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EDF6-5A54-468E-B97A-386A7D326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42B5-3FA9-4CB1-963E-6D19AE6EF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DBAF-5B54-4E97-831E-2585F7B5A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4F78-77BE-4AAE-9D15-C80705043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109B-D689-4F27-9048-2ADA0C3EC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the evidence for a genetic contribution to the development of schizophr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E987-1947-4631-82DF-1CF0D0C9F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87AD-1ED0-400B-A037-95A46FC3F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2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some psychological factors that may be early signs of schizophrenia in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2EA9-0EA7-4E80-969F-D88F958A4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1775-CB8A-41D2-BBB2-25380C544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2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Contrast the three clusters of personality disorders, and describe the behaviors and brain activity associated with antisocial personality dis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3ABA-F37B-4ED3-ACEF-2B9288A76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EDE1-56BB-439C-AE3B-3E5F042BB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6405-B4F3-4263-8495-10E800139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5FD8-FD33-4DC1-9D78-B817FF6F1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772C-F7AE-4C60-B948-379F3B262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2BAD-7C53-44DC-840E-33D0A716C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2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the prevalence of psychological disorders, and summarize the findings on the link between poverty and serious psychological dis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3B78-E286-4A7C-A638-83F51B761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09A5-69B8-4B57-A3DE-91BE171D1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6601-CA74-4691-9419-C2BED05E3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2050-42CB-4899-9F4B-295C57138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DBCF-B0D5-47A0-8265-387E85597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7774-A498-45BA-AB94-148DC3FB6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4F07-3064-435E-BA13-AD85F65D5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the facts that an acceptable theory of depression must expl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CA6E-8049-48EE-A0C5-BA794BDA0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FF8-C57F-428E-B6AA-C2702682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0E40-E21D-482B-8CBB-E567062E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BCCB-A2C6-4108-A04E-3B43F5A9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8738-2A9E-438A-BCB4-15B23213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9D1-6B69-4D2C-A111-24A5C325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8FE-AD87-41BF-87DD-679E222D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B9D4-A0EE-49FD-A634-3D3D36BD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41D-2B70-4E61-9CE9-C9699643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2259-744F-4335-94B6-6A009017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B9E3-F3CF-4A2B-815D-CD865339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C6A-C5B6-4A8F-BC7E-81639E57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7E9-180F-454B-AF06-CB758B5F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3C78-C4C4-4AAE-9D38-F5FFE7EE4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3BF6-70E9-449B-A79D-C03C4341C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9280" y="2224080"/>
            <a:ext cx="7681680" cy="31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br>
              <a:rPr sz="5400"/>
            </a:b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Chapter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MyersPsy8e_CO16"/>
          <p:cNvPicPr/>
          <p:nvPr/>
        </p:nvPicPr>
        <p:blipFill>
          <a:blip r:embed="rId1"/>
          <a:stretch/>
        </p:blipFill>
        <p:spPr>
          <a:xfrm>
            <a:off x="422280" y="380880"/>
            <a:ext cx="132084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8677-893C-45EF-8D0A-06AA4ED72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ory of De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976320" y="1600200"/>
            <a:ext cx="7148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pressive episodes self-termin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pression is increasing, especially in the te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6" descr="MyersPsy8e_16UN18"/>
          <p:cNvPicPr/>
          <p:nvPr/>
        </p:nvPicPr>
        <p:blipFill>
          <a:blip r:embed="rId1"/>
          <a:stretch/>
        </p:blipFill>
        <p:spPr>
          <a:xfrm>
            <a:off x="3508200" y="3200400"/>
            <a:ext cx="2129040" cy="31240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3022560" y="6324480"/>
            <a:ext cx="306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ost-partum de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 rot="5400000">
            <a:off x="4875120" y="5313600"/>
            <a:ext cx="176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iree Navarro/ Getty Im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8C4E-8EA9-4B50-B66D-F42711BAF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uic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most severe form of behavioral response to depression is suicide. Each year some 1 million people commit suicide worldw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533520" y="3214800"/>
            <a:ext cx="4038480" cy="3109680"/>
            <a:chOff x="533520" y="3214800"/>
            <a:chExt cx="4038480" cy="3109680"/>
          </a:xfrm>
        </p:grpSpPr>
        <p:sp>
          <p:nvSpPr>
            <p:cNvPr id="155" name="Rectangle 5"/>
            <p:cNvSpPr/>
            <p:nvPr/>
          </p:nvSpPr>
          <p:spPr>
            <a:xfrm>
              <a:off x="533520" y="3657600"/>
              <a:ext cx="403848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20000"/>
                </a:lnSpc>
                <a:buClr>
                  <a:srgbClr val="000000"/>
                </a:buClr>
                <a:buFont typeface="Palatino Linotyp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National differ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20000"/>
                </a:lnSpc>
                <a:buClr>
                  <a:srgbClr val="000000"/>
                </a:buClr>
                <a:buFont typeface="Palatino Linotyp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Racial differ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20000"/>
                </a:lnSpc>
                <a:buClr>
                  <a:srgbClr val="000000"/>
                </a:buClr>
                <a:buFont typeface="Palatino Linotyp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Gender differ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20000"/>
                </a:lnSpc>
                <a:buClr>
                  <a:srgbClr val="000000"/>
                </a:buClr>
                <a:buFont typeface="Palatino Linotyp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Age differ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20000"/>
                </a:lnSpc>
                <a:buClr>
                  <a:srgbClr val="000000"/>
                </a:buClr>
                <a:buFont typeface="Palatino Linotyp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Other differ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1057680" y="3214800"/>
              <a:ext cx="299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Suicide Statistic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7" name="Picture 8" descr="MyersPsy8e_fig"/>
          <p:cNvPicPr/>
          <p:nvPr/>
        </p:nvPicPr>
        <p:blipFill>
          <a:blip r:embed="rId1"/>
          <a:stretch/>
        </p:blipFill>
        <p:spPr>
          <a:xfrm>
            <a:off x="4572000" y="4202280"/>
            <a:ext cx="42670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0AE0-DBCD-4D38-9EC9-E0C03D350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iological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6" descr="MyersPsy8e_16UN19"/>
          <p:cNvPicPr/>
          <p:nvPr/>
        </p:nvPicPr>
        <p:blipFill>
          <a:blip r:embed="rId1"/>
          <a:stretch/>
        </p:blipFill>
        <p:spPr>
          <a:xfrm>
            <a:off x="4772160" y="3503520"/>
            <a:ext cx="3990960" cy="26686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enetic Influences: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Mood disorders run in families. The rate of depression is higher in identical (50%) than fraternal twins (20%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57200" y="3505320"/>
            <a:ext cx="4038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Linkage analysi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association studie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link possible genes and dispositions for de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 rot="5400000">
            <a:off x="8170200" y="5334480"/>
            <a:ext cx="142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erry Irwin Phot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ECC4-0428-411F-8044-AF73C44D3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14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Neurotransmitters &amp; De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5918040" y="1828800"/>
            <a:ext cx="1955880" cy="2459160"/>
          </a:xfrm>
          <a:custGeom>
            <a:avLst/>
            <a:gdLst>
              <a:gd name="textAreaLeft" fmla="*/ 0 w 1955880"/>
              <a:gd name="textAreaRight" fmla="*/ 1956240 w 1955880"/>
              <a:gd name="textAreaTop" fmla="*/ 0 h 2459160"/>
              <a:gd name="textAreaBottom" fmla="*/ 2459520 h 2459160"/>
            </a:gdLst>
            <a:ahLst/>
            <a:rect l="textAreaLeft" t="textAreaTop" r="textAreaRight" b="textAreaBottom"/>
            <a:pathLst>
              <a:path w="1775" h="2231">
                <a:moveTo>
                  <a:pt x="383" y="17"/>
                </a:moveTo>
                <a:cubicBezTo>
                  <a:pt x="399" y="118"/>
                  <a:pt x="418" y="218"/>
                  <a:pt x="430" y="319"/>
                </a:cubicBezTo>
                <a:cubicBezTo>
                  <a:pt x="425" y="431"/>
                  <a:pt x="427" y="535"/>
                  <a:pt x="392" y="640"/>
                </a:cubicBezTo>
                <a:cubicBezTo>
                  <a:pt x="353" y="777"/>
                  <a:pt x="244" y="1025"/>
                  <a:pt x="194" y="1141"/>
                </a:cubicBezTo>
                <a:cubicBezTo>
                  <a:pt x="161" y="1220"/>
                  <a:pt x="115" y="1278"/>
                  <a:pt x="90" y="1339"/>
                </a:cubicBezTo>
                <a:cubicBezTo>
                  <a:pt x="58" y="1422"/>
                  <a:pt x="33" y="1528"/>
                  <a:pt x="15" y="1612"/>
                </a:cubicBezTo>
                <a:cubicBezTo>
                  <a:pt x="0" y="1689"/>
                  <a:pt x="12" y="1755"/>
                  <a:pt x="28" y="1820"/>
                </a:cubicBezTo>
                <a:cubicBezTo>
                  <a:pt x="44" y="1885"/>
                  <a:pt x="74" y="1951"/>
                  <a:pt x="109" y="2000"/>
                </a:cubicBezTo>
                <a:cubicBezTo>
                  <a:pt x="133" y="2024"/>
                  <a:pt x="160" y="2067"/>
                  <a:pt x="238" y="2112"/>
                </a:cubicBezTo>
                <a:cubicBezTo>
                  <a:pt x="346" y="2147"/>
                  <a:pt x="402" y="2165"/>
                  <a:pt x="489" y="2182"/>
                </a:cubicBezTo>
                <a:cubicBezTo>
                  <a:pt x="576" y="2199"/>
                  <a:pt x="668" y="2206"/>
                  <a:pt x="759" y="2213"/>
                </a:cubicBezTo>
                <a:cubicBezTo>
                  <a:pt x="938" y="2222"/>
                  <a:pt x="815" y="2231"/>
                  <a:pt x="1033" y="2222"/>
                </a:cubicBezTo>
                <a:cubicBezTo>
                  <a:pt x="1112" y="2209"/>
                  <a:pt x="1224" y="2187"/>
                  <a:pt x="1299" y="2161"/>
                </a:cubicBezTo>
                <a:cubicBezTo>
                  <a:pt x="1374" y="2147"/>
                  <a:pt x="1456" y="2140"/>
                  <a:pt x="1516" y="2113"/>
                </a:cubicBezTo>
                <a:cubicBezTo>
                  <a:pt x="1551" y="2091"/>
                  <a:pt x="1618" y="2044"/>
                  <a:pt x="1658" y="2000"/>
                </a:cubicBezTo>
                <a:cubicBezTo>
                  <a:pt x="1679" y="1975"/>
                  <a:pt x="1738" y="1875"/>
                  <a:pt x="1756" y="1847"/>
                </a:cubicBezTo>
                <a:cubicBezTo>
                  <a:pt x="1775" y="1787"/>
                  <a:pt x="1774" y="1719"/>
                  <a:pt x="1774" y="1637"/>
                </a:cubicBezTo>
                <a:cubicBezTo>
                  <a:pt x="1773" y="1613"/>
                  <a:pt x="1717" y="1446"/>
                  <a:pt x="1705" y="1424"/>
                </a:cubicBezTo>
                <a:cubicBezTo>
                  <a:pt x="1672" y="1353"/>
                  <a:pt x="1641" y="1264"/>
                  <a:pt x="1535" y="1094"/>
                </a:cubicBezTo>
                <a:cubicBezTo>
                  <a:pt x="1447" y="962"/>
                  <a:pt x="1195" y="580"/>
                  <a:pt x="1072" y="404"/>
                </a:cubicBezTo>
                <a:cubicBezTo>
                  <a:pt x="1014" y="327"/>
                  <a:pt x="878" y="128"/>
                  <a:pt x="798" y="36"/>
                </a:cubicBezTo>
                <a:cubicBezTo>
                  <a:pt x="613" y="18"/>
                  <a:pt x="576" y="0"/>
                  <a:pt x="383" y="17"/>
                </a:cubicBezTo>
                <a:close/>
              </a:path>
            </a:pathLst>
          </a:custGeom>
          <a:solidFill>
            <a:srgbClr val="cccc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4"/>
          <p:cNvSpPr/>
          <p:nvPr/>
        </p:nvSpPr>
        <p:spPr>
          <a:xfrm>
            <a:off x="5715000" y="4037040"/>
            <a:ext cx="2913120" cy="1144440"/>
          </a:xfrm>
          <a:custGeom>
            <a:avLst/>
            <a:gdLst>
              <a:gd name="textAreaLeft" fmla="*/ 0 w 2913120"/>
              <a:gd name="textAreaRight" fmla="*/ 2913480 w 2913120"/>
              <a:gd name="textAreaTop" fmla="*/ 0 h 1144440"/>
              <a:gd name="textAreaBottom" fmla="*/ 1144800 h 1144440"/>
            </a:gdLst>
            <a:ahLst/>
            <a:rect l="textAreaLeft" t="textAreaTop" r="textAreaRight" b="textAreaBottom"/>
            <a:pathLst>
              <a:path w="2644" h="1039">
                <a:moveTo>
                  <a:pt x="0" y="246"/>
                </a:moveTo>
                <a:cubicBezTo>
                  <a:pt x="79" y="254"/>
                  <a:pt x="157" y="284"/>
                  <a:pt x="236" y="293"/>
                </a:cubicBezTo>
                <a:cubicBezTo>
                  <a:pt x="297" y="312"/>
                  <a:pt x="361" y="341"/>
                  <a:pt x="425" y="350"/>
                </a:cubicBezTo>
                <a:cubicBezTo>
                  <a:pt x="456" y="354"/>
                  <a:pt x="488" y="355"/>
                  <a:pt x="520" y="359"/>
                </a:cubicBezTo>
                <a:cubicBezTo>
                  <a:pt x="539" y="361"/>
                  <a:pt x="557" y="365"/>
                  <a:pt x="576" y="368"/>
                </a:cubicBezTo>
                <a:cubicBezTo>
                  <a:pt x="631" y="387"/>
                  <a:pt x="676" y="391"/>
                  <a:pt x="737" y="397"/>
                </a:cubicBezTo>
                <a:cubicBezTo>
                  <a:pt x="854" y="435"/>
                  <a:pt x="983" y="455"/>
                  <a:pt x="1105" y="472"/>
                </a:cubicBezTo>
                <a:cubicBezTo>
                  <a:pt x="1281" y="469"/>
                  <a:pt x="1458" y="471"/>
                  <a:pt x="1634" y="463"/>
                </a:cubicBezTo>
                <a:cubicBezTo>
                  <a:pt x="1681" y="461"/>
                  <a:pt x="1782" y="455"/>
                  <a:pt x="1823" y="435"/>
                </a:cubicBezTo>
                <a:cubicBezTo>
                  <a:pt x="1914" y="390"/>
                  <a:pt x="1979" y="371"/>
                  <a:pt x="2068" y="321"/>
                </a:cubicBezTo>
                <a:cubicBezTo>
                  <a:pt x="2184" y="256"/>
                  <a:pt x="2280" y="164"/>
                  <a:pt x="2408" y="123"/>
                </a:cubicBezTo>
                <a:cubicBezTo>
                  <a:pt x="2447" y="97"/>
                  <a:pt x="2477" y="71"/>
                  <a:pt x="2521" y="57"/>
                </a:cubicBezTo>
                <a:cubicBezTo>
                  <a:pt x="2540" y="44"/>
                  <a:pt x="2559" y="32"/>
                  <a:pt x="2578" y="19"/>
                </a:cubicBezTo>
                <a:cubicBezTo>
                  <a:pt x="2595" y="8"/>
                  <a:pt x="2635" y="0"/>
                  <a:pt x="2635" y="0"/>
                </a:cubicBezTo>
                <a:cubicBezTo>
                  <a:pt x="2644" y="1020"/>
                  <a:pt x="2635" y="0"/>
                  <a:pt x="2644" y="1029"/>
                </a:cubicBezTo>
                <a:cubicBezTo>
                  <a:pt x="2162" y="1029"/>
                  <a:pt x="1029" y="1039"/>
                  <a:pt x="0" y="1001"/>
                </a:cubicBezTo>
                <a:cubicBezTo>
                  <a:pt x="10" y="418"/>
                  <a:pt x="0" y="992"/>
                  <a:pt x="0" y="246"/>
                </a:cubicBezTo>
                <a:close/>
              </a:path>
            </a:pathLst>
          </a:custGeom>
          <a:solidFill>
            <a:srgbClr val="ff99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7054920" y="451656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Post-syna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Neu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137280" y="294012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Pre-syna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Neu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40"/>
          <p:cNvGrpSpPr/>
          <p:nvPr/>
        </p:nvGrpSpPr>
        <p:grpSpPr>
          <a:xfrm>
            <a:off x="7291440" y="3786120"/>
            <a:ext cx="263520" cy="263520"/>
            <a:chOff x="7291440" y="3786120"/>
            <a:chExt cx="263520" cy="263520"/>
          </a:xfrm>
        </p:grpSpPr>
        <p:sp>
          <p:nvSpPr>
            <p:cNvPr id="171" name="Oval 41"/>
            <p:cNvSpPr/>
            <p:nvPr/>
          </p:nvSpPr>
          <p:spPr>
            <a:xfrm>
              <a:off x="7291440" y="3786120"/>
              <a:ext cx="263520" cy="26352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42"/>
            <p:cNvSpPr/>
            <p:nvPr/>
          </p:nvSpPr>
          <p:spPr>
            <a:xfrm>
              <a:off x="7396560" y="3891240"/>
              <a:ext cx="63720" cy="63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43"/>
            <p:cNvSpPr/>
            <p:nvPr/>
          </p:nvSpPr>
          <p:spPr>
            <a:xfrm>
              <a:off x="7319520" y="3891240"/>
              <a:ext cx="63720" cy="63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44"/>
            <p:cNvSpPr/>
            <p:nvPr/>
          </p:nvSpPr>
          <p:spPr>
            <a:xfrm>
              <a:off x="7363800" y="3961800"/>
              <a:ext cx="63360" cy="6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45"/>
            <p:cNvSpPr/>
            <p:nvPr/>
          </p:nvSpPr>
          <p:spPr>
            <a:xfrm>
              <a:off x="7449480" y="3944160"/>
              <a:ext cx="63360" cy="63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46"/>
            <p:cNvSpPr/>
            <p:nvPr/>
          </p:nvSpPr>
          <p:spPr>
            <a:xfrm>
              <a:off x="7449480" y="3838680"/>
              <a:ext cx="63360" cy="6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47"/>
            <p:cNvSpPr/>
            <p:nvPr/>
          </p:nvSpPr>
          <p:spPr>
            <a:xfrm>
              <a:off x="7372440" y="3814560"/>
              <a:ext cx="63720" cy="6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82"/>
          <p:cNvGrpSpPr/>
          <p:nvPr/>
        </p:nvGrpSpPr>
        <p:grpSpPr>
          <a:xfrm>
            <a:off x="6127920" y="3732120"/>
            <a:ext cx="263520" cy="265320"/>
            <a:chOff x="6127920" y="3732120"/>
            <a:chExt cx="263520" cy="265320"/>
          </a:xfrm>
        </p:grpSpPr>
        <p:sp>
          <p:nvSpPr>
            <p:cNvPr id="179" name="Oval 57"/>
            <p:cNvSpPr/>
            <p:nvPr/>
          </p:nvSpPr>
          <p:spPr>
            <a:xfrm>
              <a:off x="6127920" y="3732120"/>
              <a:ext cx="263520" cy="2653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58"/>
            <p:cNvSpPr/>
            <p:nvPr/>
          </p:nvSpPr>
          <p:spPr>
            <a:xfrm>
              <a:off x="6233040" y="3837960"/>
              <a:ext cx="63720" cy="64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Oval 59"/>
            <p:cNvSpPr/>
            <p:nvPr/>
          </p:nvSpPr>
          <p:spPr>
            <a:xfrm>
              <a:off x="6156000" y="3837960"/>
              <a:ext cx="63720" cy="64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60"/>
            <p:cNvSpPr/>
            <p:nvPr/>
          </p:nvSpPr>
          <p:spPr>
            <a:xfrm>
              <a:off x="6200280" y="3908880"/>
              <a:ext cx="63360" cy="64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61"/>
            <p:cNvSpPr/>
            <p:nvPr/>
          </p:nvSpPr>
          <p:spPr>
            <a:xfrm>
              <a:off x="6285960" y="3891240"/>
              <a:ext cx="63360" cy="637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62"/>
            <p:cNvSpPr/>
            <p:nvPr/>
          </p:nvSpPr>
          <p:spPr>
            <a:xfrm>
              <a:off x="6285960" y="3785040"/>
              <a:ext cx="63360" cy="64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Oval 63"/>
            <p:cNvSpPr/>
            <p:nvPr/>
          </p:nvSpPr>
          <p:spPr>
            <a:xfrm>
              <a:off x="6208920" y="3760560"/>
              <a:ext cx="63720" cy="64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Oval 64"/>
          <p:cNvSpPr/>
          <p:nvPr/>
        </p:nvSpPr>
        <p:spPr>
          <a:xfrm>
            <a:off x="6486480" y="4325760"/>
            <a:ext cx="63720" cy="65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65"/>
          <p:cNvGrpSpPr/>
          <p:nvPr/>
        </p:nvGrpSpPr>
        <p:grpSpPr>
          <a:xfrm>
            <a:off x="6550200" y="3890880"/>
            <a:ext cx="264960" cy="265320"/>
            <a:chOff x="6550200" y="3890880"/>
            <a:chExt cx="264960" cy="265320"/>
          </a:xfrm>
        </p:grpSpPr>
        <p:sp>
          <p:nvSpPr>
            <p:cNvPr id="188" name="Oval 66"/>
            <p:cNvSpPr/>
            <p:nvPr/>
          </p:nvSpPr>
          <p:spPr>
            <a:xfrm>
              <a:off x="6550200" y="3890880"/>
              <a:ext cx="264960" cy="26532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67"/>
            <p:cNvSpPr/>
            <p:nvPr/>
          </p:nvSpPr>
          <p:spPr>
            <a:xfrm>
              <a:off x="6656040" y="3996720"/>
              <a:ext cx="64080" cy="64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68"/>
            <p:cNvSpPr/>
            <p:nvPr/>
          </p:nvSpPr>
          <p:spPr>
            <a:xfrm>
              <a:off x="6578640" y="3996720"/>
              <a:ext cx="64080" cy="64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69"/>
            <p:cNvSpPr/>
            <p:nvPr/>
          </p:nvSpPr>
          <p:spPr>
            <a:xfrm>
              <a:off x="6622920" y="4068000"/>
              <a:ext cx="63720" cy="63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70"/>
            <p:cNvSpPr/>
            <p:nvPr/>
          </p:nvSpPr>
          <p:spPr>
            <a:xfrm>
              <a:off x="6708960" y="4050000"/>
              <a:ext cx="63720" cy="64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71"/>
            <p:cNvSpPr/>
            <p:nvPr/>
          </p:nvSpPr>
          <p:spPr>
            <a:xfrm>
              <a:off x="6708960" y="3943800"/>
              <a:ext cx="63720" cy="63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72"/>
            <p:cNvSpPr/>
            <p:nvPr/>
          </p:nvSpPr>
          <p:spPr>
            <a:xfrm>
              <a:off x="6631560" y="3919680"/>
              <a:ext cx="64080" cy="63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Oval 73"/>
          <p:cNvSpPr/>
          <p:nvPr/>
        </p:nvSpPr>
        <p:spPr>
          <a:xfrm>
            <a:off x="6315120" y="4325760"/>
            <a:ext cx="63360" cy="651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74"/>
          <p:cNvSpPr/>
          <p:nvPr/>
        </p:nvSpPr>
        <p:spPr>
          <a:xfrm>
            <a:off x="6827760" y="4379760"/>
            <a:ext cx="63720" cy="63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75"/>
          <p:cNvSpPr/>
          <p:nvPr/>
        </p:nvSpPr>
        <p:spPr>
          <a:xfrm>
            <a:off x="6656400" y="4379760"/>
            <a:ext cx="63360" cy="63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76"/>
          <p:cNvSpPr/>
          <p:nvPr/>
        </p:nvSpPr>
        <p:spPr>
          <a:xfrm>
            <a:off x="7121520" y="4432320"/>
            <a:ext cx="63360" cy="633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77"/>
          <p:cNvSpPr/>
          <p:nvPr/>
        </p:nvSpPr>
        <p:spPr>
          <a:xfrm>
            <a:off x="6948360" y="4432320"/>
            <a:ext cx="65160" cy="63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78"/>
          <p:cNvSpPr/>
          <p:nvPr/>
        </p:nvSpPr>
        <p:spPr>
          <a:xfrm>
            <a:off x="7280280" y="4336920"/>
            <a:ext cx="63360" cy="65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79"/>
          <p:cNvSpPr/>
          <p:nvPr/>
        </p:nvSpPr>
        <p:spPr>
          <a:xfrm>
            <a:off x="7107120" y="4336920"/>
            <a:ext cx="65160" cy="651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83"/>
          <p:cNvGrpSpPr/>
          <p:nvPr/>
        </p:nvGrpSpPr>
        <p:grpSpPr>
          <a:xfrm>
            <a:off x="6919920" y="3890880"/>
            <a:ext cx="264960" cy="265320"/>
            <a:chOff x="6919920" y="3890880"/>
            <a:chExt cx="264960" cy="265320"/>
          </a:xfrm>
        </p:grpSpPr>
        <p:sp>
          <p:nvSpPr>
            <p:cNvPr id="203" name="Oval 84"/>
            <p:cNvSpPr/>
            <p:nvPr/>
          </p:nvSpPr>
          <p:spPr>
            <a:xfrm>
              <a:off x="6919920" y="3890880"/>
              <a:ext cx="264960" cy="2653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Oval 85"/>
            <p:cNvSpPr/>
            <p:nvPr/>
          </p:nvSpPr>
          <p:spPr>
            <a:xfrm>
              <a:off x="7025760" y="3996720"/>
              <a:ext cx="64080" cy="64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86"/>
            <p:cNvSpPr/>
            <p:nvPr/>
          </p:nvSpPr>
          <p:spPr>
            <a:xfrm>
              <a:off x="6948360" y="3996720"/>
              <a:ext cx="64080" cy="64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87"/>
            <p:cNvSpPr/>
            <p:nvPr/>
          </p:nvSpPr>
          <p:spPr>
            <a:xfrm>
              <a:off x="6992640" y="4067640"/>
              <a:ext cx="63720" cy="64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88"/>
            <p:cNvSpPr/>
            <p:nvPr/>
          </p:nvSpPr>
          <p:spPr>
            <a:xfrm>
              <a:off x="7078680" y="4050000"/>
              <a:ext cx="63720" cy="637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89"/>
            <p:cNvSpPr/>
            <p:nvPr/>
          </p:nvSpPr>
          <p:spPr>
            <a:xfrm>
              <a:off x="7078680" y="3943800"/>
              <a:ext cx="63720" cy="64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90"/>
            <p:cNvSpPr/>
            <p:nvPr/>
          </p:nvSpPr>
          <p:spPr>
            <a:xfrm>
              <a:off x="7001280" y="3919320"/>
              <a:ext cx="64080" cy="64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Oval 92"/>
          <p:cNvSpPr/>
          <p:nvPr/>
        </p:nvSpPr>
        <p:spPr>
          <a:xfrm>
            <a:off x="7556400" y="4362480"/>
            <a:ext cx="63720" cy="633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93"/>
          <p:cNvSpPr/>
          <p:nvPr/>
        </p:nvSpPr>
        <p:spPr>
          <a:xfrm>
            <a:off x="7626240" y="4267080"/>
            <a:ext cx="63720" cy="65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94"/>
          <p:cNvSpPr/>
          <p:nvPr/>
        </p:nvSpPr>
        <p:spPr>
          <a:xfrm>
            <a:off x="7453440" y="4267080"/>
            <a:ext cx="64800" cy="651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95"/>
          <p:cNvSpPr/>
          <p:nvPr/>
        </p:nvSpPr>
        <p:spPr>
          <a:xfrm>
            <a:off x="6099120" y="4282920"/>
            <a:ext cx="63720" cy="63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96"/>
          <p:cNvSpPr/>
          <p:nvPr/>
        </p:nvSpPr>
        <p:spPr>
          <a:xfrm>
            <a:off x="6173640" y="4191120"/>
            <a:ext cx="63720" cy="64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97"/>
          <p:cNvSpPr/>
          <p:nvPr/>
        </p:nvSpPr>
        <p:spPr>
          <a:xfrm>
            <a:off x="5915160" y="4168800"/>
            <a:ext cx="64800" cy="651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98"/>
          <p:cNvSpPr/>
          <p:nvPr/>
        </p:nvSpPr>
        <p:spPr>
          <a:xfrm>
            <a:off x="7835760" y="4265640"/>
            <a:ext cx="63720" cy="633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99"/>
          <p:cNvSpPr/>
          <p:nvPr/>
        </p:nvSpPr>
        <p:spPr>
          <a:xfrm>
            <a:off x="7896240" y="4124160"/>
            <a:ext cx="63360" cy="65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100"/>
          <p:cNvSpPr/>
          <p:nvPr/>
        </p:nvSpPr>
        <p:spPr>
          <a:xfrm>
            <a:off x="7764480" y="4114800"/>
            <a:ext cx="65160" cy="651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101"/>
          <p:cNvSpPr/>
          <p:nvPr/>
        </p:nvSpPr>
        <p:spPr>
          <a:xfrm>
            <a:off x="7772400" y="4343400"/>
            <a:ext cx="63360" cy="65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102"/>
          <p:cNvSpPr/>
          <p:nvPr/>
        </p:nvSpPr>
        <p:spPr>
          <a:xfrm>
            <a:off x="7391520" y="4419720"/>
            <a:ext cx="63360" cy="64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"/>
          <p:cNvSpPr/>
          <p:nvPr/>
        </p:nvSpPr>
        <p:spPr>
          <a:xfrm>
            <a:off x="4132440" y="365760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Norepineph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4"/>
          <p:cNvSpPr/>
          <p:nvPr/>
        </p:nvSpPr>
        <p:spPr>
          <a:xfrm>
            <a:off x="5486400" y="4008600"/>
            <a:ext cx="43164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784640" y="354168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Seroto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7937640" y="3849840"/>
            <a:ext cx="63360" cy="26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7"/>
          <p:cNvSpPr/>
          <p:nvPr/>
        </p:nvSpPr>
        <p:spPr>
          <a:xfrm>
            <a:off x="457200" y="16002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reduction of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norepinephrin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serotoni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has been found in de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rugs that alleviate mania reduce norepinephr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0D03-4D5B-40A7-8E65-D3433EA11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Depressed B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1600" y="1600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T scans show that brain energy consumption rises and falls with manic and depressive epis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9" descr="MyersPsy8e_fig"/>
          <p:cNvPicPr/>
          <p:nvPr/>
        </p:nvPicPr>
        <p:blipFill>
          <a:blip r:embed="rId1"/>
          <a:stretch/>
        </p:blipFill>
        <p:spPr>
          <a:xfrm>
            <a:off x="914400" y="3352680"/>
            <a:ext cx="7315200" cy="30416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1"/>
          <p:cNvSpPr/>
          <p:nvPr/>
        </p:nvSpPr>
        <p:spPr>
          <a:xfrm rot="5400000">
            <a:off x="7395120" y="46404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urtesy of Lewis Baxter an Michael 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helps, UCLA School of Medic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33E3-9861-462A-9B1E-0BE9FAF53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ocial-Cognitive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social-cognitive perspective suggests that depression arises partly from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self-defeating belief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negative explanatory style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7" descr="MyersPsy8e_fig"/>
          <p:cNvPicPr/>
          <p:nvPr/>
        </p:nvPicPr>
        <p:blipFill>
          <a:blip r:embed="rId1"/>
          <a:stretch/>
        </p:blipFill>
        <p:spPr>
          <a:xfrm>
            <a:off x="2084400" y="3200400"/>
            <a:ext cx="49737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F038-2CA4-497B-B314-01BC71BDC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epression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04920" y="1600200"/>
            <a:ext cx="4267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egative stressful ev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essimistic explanatory sty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peless depressed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se hamper the way the individual thinks and acts, fueling personal rej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6" descr="MyersPsy8e_fig"/>
          <p:cNvPicPr/>
          <p:nvPr/>
        </p:nvPicPr>
        <p:blipFill>
          <a:blip r:embed="rId1"/>
          <a:stretch/>
        </p:blipFill>
        <p:spPr>
          <a:xfrm>
            <a:off x="4572000" y="1600200"/>
            <a:ext cx="40528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DFEC-BEE9-4B44-A12D-80530AD51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98520" y="5791320"/>
            <a:ext cx="8331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xplanatory style plays a major role in becoming de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9" descr="MyersPsy8e_fig"/>
          <p:cNvPicPr/>
          <p:nvPr/>
        </p:nvPicPr>
        <p:blipFill>
          <a:blip r:embed="rId1"/>
          <a:stretch/>
        </p:blipFill>
        <p:spPr>
          <a:xfrm>
            <a:off x="2182680" y="1600200"/>
            <a:ext cx="4749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BA19-4115-423E-A6A4-DECC0A93D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chizophre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f depression is the common cold of psychological disorders, schizophrenia is the canc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71400" y="32004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early 1 in a 100 suffer from schizophrenia, and throughout the world over 24 million people suffer from this disease (WHO, 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71400" y="48006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izophrenia strikes young people as they mature into adults. It affects men and women equally, but men suffer from it more severely than wo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3E45-6B17-47C5-9242-83C277FE9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ymptoms of Schizophre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1400" y="1419120"/>
            <a:ext cx="77724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literal translation is “split mind.” A group of severe disorders characterized by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1919160" y="2971800"/>
            <a:ext cx="528336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sorganized and delusional thi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sturbed percep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appropriate emotions and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885A-4907-4AB1-A9BE-01A3F33B3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4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ood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motional extremes of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mood disorder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come in two principal 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004840" y="34290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jor depressive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ipolar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83F7-8D0E-43E4-828A-86509377D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71400" y="45100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ther forms of delusions include, delusions of persecution (“someone is following me”) or grandeur (“I am a king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isorganized &amp; Delusional Thin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671400" y="16002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s morning when I was at Hillside [Hospital], I was making a movie. I was surrounded by movie stars … I’m Marry Poppins. Is this room painted blue to get me upset? My grandmother died four weeks after my eighteenth birthda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5847120" y="342900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(Sheehan, 198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671400" y="4529160"/>
            <a:ext cx="77724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s monologue illustrates fragmented, bizarre thinking with distorted beliefs called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elusion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(“I’m Mary Poppins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0BA9-DA28-4EA7-A2D5-8E7B22B1A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isorganized &amp; Delusional Thin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ny psychologists believe disorganized thoughts occur because of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selective atten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failure (fragmented and bizarre though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7CC7-AF90-49F6-BA9A-8B94AAA20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isturbed Perce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86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schizophrenic person may perceive things that are not there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hallucination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. Frequently such hallucinations are auditory and lesser visual, somatosensory, olfactory, or gusta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4" descr="MyersPsy8e_16UN23"/>
          <p:cNvPicPr/>
          <p:nvPr/>
        </p:nvPicPr>
        <p:blipFill>
          <a:blip r:embed="rId1"/>
          <a:stretch/>
        </p:blipFill>
        <p:spPr>
          <a:xfrm>
            <a:off x="1433520" y="3429000"/>
            <a:ext cx="6248520" cy="29574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6"/>
          <p:cNvSpPr/>
          <p:nvPr/>
        </p:nvSpPr>
        <p:spPr>
          <a:xfrm rot="5400000">
            <a:off x="6379200" y="4873680"/>
            <a:ext cx="2800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. Berthold, </a:t>
            </a: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Untitled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The Prinzhorn Collection, University of Heidelber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7"/>
          <p:cNvSpPr/>
          <p:nvPr/>
        </p:nvSpPr>
        <p:spPr>
          <a:xfrm rot="5400000">
            <a:off x="3813120" y="4889160"/>
            <a:ext cx="3097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ugust Natter, </a:t>
            </a: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Witches Head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The Prinzhorn Collection, University of Heidelber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8"/>
          <p:cNvSpPr/>
          <p:nvPr/>
        </p:nvSpPr>
        <p:spPr>
          <a:xfrm rot="5400000">
            <a:off x="-79920" y="4890240"/>
            <a:ext cx="2818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hotos of paintings by Krannert Museum, University of Illinois at Urbana-Champaig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7D0D-989A-4316-81C2-069A55356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appropriate Emotions &amp; 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schizophrenic person may laugh at the news of someone dying or show no emotion at all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apath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71400" y="4025880"/>
            <a:ext cx="77724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tients with schizophrenia may continually rub an arm, rock a chair, or remain motionless for hours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atatonia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FC14-7A0D-45E1-B820-FA7CE2F8C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ubtypes of Schizophre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izophrenia is a cluster of disorders. These subtypes share some features, but there are other symptoms that differentiate these sub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226A-25D8-47CD-B20D-C0280423B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ositive and Negative Symp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izophrenics have inappropriate symptoms (hallucinations, disorganized thinking, deluded ways) that are not present in normal individuals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positive symptom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671400" y="39625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izophrenics also have an absence of appropriate symptoms (apathy, expressionless faces, rigid bodies) that are present in normal individuals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negative symptom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4DD6-EF9E-4DC8-B778-9D6394B72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hronic and Acute Schizophre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schizophrenia is slow to develop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hronic/proces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 recovery is doubtful. Such schizophrenics usually display negative symp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671400" y="3962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schizophrenia rapidly develops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acute/reactiv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 recovery is better. Such schizophrenics usually show positive symp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03FC-E34B-4C90-8FDB-36CBD2192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ub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5" descr="MyersPsy8e_Table"/>
          <p:cNvPicPr/>
          <p:nvPr/>
        </p:nvPicPr>
        <p:blipFill>
          <a:blip r:embed="rId1"/>
          <a:stretch/>
        </p:blipFill>
        <p:spPr>
          <a:xfrm>
            <a:off x="480960" y="2492280"/>
            <a:ext cx="8153280" cy="28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823A-92C4-42E4-9808-9F2F5E351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Understanding Schizophre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izophrenia is a disease of the brain exhibited by the symptoms of the m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671400" y="39625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opamine Overactivity: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searchers found that schizophrenic patients express higher levels of dopamine D4 receptors in the b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2734920" y="3419640"/>
            <a:ext cx="36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rain Abnorm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2694-70A8-4EE0-B086-B92758B60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bnormal Brain 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rain scans show abnormal activity in 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frontal cortex, thalamus,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d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 amygdala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of schizophrenic patients.  Adolescent schizophrenic patients also have brain le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6" descr="MyersPsy8e_fig"/>
          <p:cNvPicPr/>
          <p:nvPr/>
        </p:nvPicPr>
        <p:blipFill>
          <a:blip r:embed="rId1"/>
          <a:stretch/>
        </p:blipFill>
        <p:spPr>
          <a:xfrm>
            <a:off x="1276200" y="3581280"/>
            <a:ext cx="6553440" cy="27259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8"/>
          <p:cNvSpPr/>
          <p:nvPr/>
        </p:nvSpPr>
        <p:spPr>
          <a:xfrm rot="5400000">
            <a:off x="6538680" y="471528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ul Thompson and Arthur W. Toga, UCLA Laboratory of Neur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maging and Judith L. Rapport, National Institute of Mental Heal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A9DE-E2FA-4296-8745-4675A94FC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ajor Depressive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57360" y="1600200"/>
            <a:ext cx="7800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pression is the “common cold” of psychological disorders. In a year, 5.8% of men and 9.5% of women report depression worldwide (WHO, 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4648320" y="4803840"/>
            <a:ext cx="3886200" cy="834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hronic shortness of br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609480" y="4803840"/>
            <a:ext cx="3886200" cy="834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asping for air after a  hard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4648320" y="4038480"/>
            <a:ext cx="3886200" cy="6858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ajor Depressive Dis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609480" y="4038480"/>
            <a:ext cx="3886200" cy="6858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Blue m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671400" y="4038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671400" y="5559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9"/>
          <p:cNvSpPr/>
          <p:nvPr/>
        </p:nvSpPr>
        <p:spPr>
          <a:xfrm>
            <a:off x="671400" y="403848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8443800" y="403848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9"/>
          <p:cNvSpPr/>
          <p:nvPr/>
        </p:nvSpPr>
        <p:spPr>
          <a:xfrm>
            <a:off x="4557600" y="4038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0"/>
          <p:cNvSpPr/>
          <p:nvPr/>
        </p:nvSpPr>
        <p:spPr>
          <a:xfrm>
            <a:off x="671400" y="4724280"/>
            <a:ext cx="0" cy="835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32"/>
          <p:cNvSpPr/>
          <p:nvPr/>
        </p:nvSpPr>
        <p:spPr>
          <a:xfrm>
            <a:off x="8443800" y="4724280"/>
            <a:ext cx="0" cy="835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4"/>
          <p:cNvSpPr/>
          <p:nvPr/>
        </p:nvSpPr>
        <p:spPr>
          <a:xfrm>
            <a:off x="4557600" y="5559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1755-D728-49F7-994C-CD8B7652E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bnormal Brain Morph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izophrenia patients may exhibit morphological changes in the brain like enlargement of fluid-filled ventric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6" descr="MyersPsy8e_16UN25"/>
          <p:cNvPicPr/>
          <p:nvPr/>
        </p:nvPicPr>
        <p:blipFill>
          <a:blip r:embed="rId1"/>
          <a:stretch/>
        </p:blipFill>
        <p:spPr>
          <a:xfrm>
            <a:off x="1928880" y="3200400"/>
            <a:ext cx="5257800" cy="317808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8"/>
          <p:cNvSpPr/>
          <p:nvPr/>
        </p:nvSpPr>
        <p:spPr>
          <a:xfrm rot="5400000">
            <a:off x="5884200" y="4507920"/>
            <a:ext cx="280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oth Photos: Courtesy of Daniel R. Weinberger, M.D., NIH-NIMH/ NS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437C-BBA3-40CD-B5B0-A62B5F5FD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Viral Inf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izophrenia has also been observed in individuals who contracted a viral infection (flu) during the middle of their fetal develop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E339-8155-4CBE-A73E-019080634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tic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likelihood of an individual suffering from schizophrenia is 50% if their identical twin has the disease (Gottesman, 199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23"/>
          <p:cNvGrpSpPr/>
          <p:nvPr/>
        </p:nvGrpSpPr>
        <p:grpSpPr>
          <a:xfrm>
            <a:off x="2190600" y="3230640"/>
            <a:ext cx="5072040" cy="3273840"/>
            <a:chOff x="2190600" y="3230640"/>
            <a:chExt cx="5072040" cy="3273840"/>
          </a:xfrm>
        </p:grpSpPr>
        <p:sp>
          <p:nvSpPr>
            <p:cNvPr id="308" name="Rectangle 8"/>
            <p:cNvSpPr/>
            <p:nvPr/>
          </p:nvSpPr>
          <p:spPr>
            <a:xfrm>
              <a:off x="4386240" y="3562200"/>
              <a:ext cx="2657520" cy="30816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9"/>
            <p:cNvSpPr/>
            <p:nvPr/>
          </p:nvSpPr>
          <p:spPr>
            <a:xfrm>
              <a:off x="4398840" y="3994200"/>
              <a:ext cx="2460960" cy="30780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212360" y="3230640"/>
              <a:ext cx="305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0    10    20    30    40    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11"/>
            <p:cNvSpPr/>
            <p:nvPr/>
          </p:nvSpPr>
          <p:spPr>
            <a:xfrm>
              <a:off x="3119760" y="359568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Ident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2"/>
            <p:cNvSpPr/>
            <p:nvPr/>
          </p:nvSpPr>
          <p:spPr>
            <a:xfrm>
              <a:off x="2637000" y="3995640"/>
              <a:ext cx="17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Both par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13"/>
            <p:cNvSpPr/>
            <p:nvPr/>
          </p:nvSpPr>
          <p:spPr>
            <a:xfrm>
              <a:off x="4398840" y="4424400"/>
              <a:ext cx="862200" cy="30780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4"/>
            <p:cNvSpPr/>
            <p:nvPr/>
          </p:nvSpPr>
          <p:spPr>
            <a:xfrm>
              <a:off x="3057120" y="441468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Fra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4398840" y="4854600"/>
              <a:ext cx="615960" cy="30780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16"/>
            <p:cNvSpPr/>
            <p:nvPr/>
          </p:nvSpPr>
          <p:spPr>
            <a:xfrm>
              <a:off x="2845800" y="4857840"/>
              <a:ext cx="154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One pa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17"/>
            <p:cNvSpPr/>
            <p:nvPr/>
          </p:nvSpPr>
          <p:spPr>
            <a:xfrm>
              <a:off x="4403880" y="5286240"/>
              <a:ext cx="425520" cy="30816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18"/>
            <p:cNvSpPr/>
            <p:nvPr/>
          </p:nvSpPr>
          <p:spPr>
            <a:xfrm>
              <a:off x="3337200" y="5276880"/>
              <a:ext cx="101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Sib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19"/>
            <p:cNvSpPr/>
            <p:nvPr/>
          </p:nvSpPr>
          <p:spPr>
            <a:xfrm>
              <a:off x="4400640" y="5716440"/>
              <a:ext cx="244440" cy="30816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2190600" y="5707080"/>
              <a:ext cx="22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Nephew or nie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>
              <a:off x="4400640" y="6119640"/>
              <a:ext cx="60120" cy="30672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22"/>
            <p:cNvSpPr/>
            <p:nvPr/>
          </p:nvSpPr>
          <p:spPr>
            <a:xfrm>
              <a:off x="2986200" y="6105600"/>
              <a:ext cx="138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Unre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A3DE-0A3C-45F6-8BBB-E0777E272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tic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following shows the prevalence of schizophrenia in identical twins as seen in different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4" descr="MyersPsy8e_fig"/>
          <p:cNvPicPr/>
          <p:nvPr/>
        </p:nvPicPr>
        <p:blipFill>
          <a:blip r:embed="rId1"/>
          <a:stretch/>
        </p:blipFill>
        <p:spPr>
          <a:xfrm>
            <a:off x="1204920" y="3200400"/>
            <a:ext cx="67057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F90E-003F-473B-BC86-7BFB1684D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logical and environmental factors can trigger schizophrenia if the individual is genetically predisposed (Nicols &amp; Gottesman, 198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19" descr="MyersPsy8e_16UN26"/>
          <p:cNvPicPr/>
          <p:nvPr/>
        </p:nvPicPr>
        <p:blipFill>
          <a:blip r:embed="rId1"/>
          <a:stretch/>
        </p:blipFill>
        <p:spPr>
          <a:xfrm>
            <a:off x="900000" y="3463920"/>
            <a:ext cx="3291120" cy="284148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1"/>
          <p:cNvSpPr/>
          <p:nvPr/>
        </p:nvSpPr>
        <p:spPr>
          <a:xfrm>
            <a:off x="1596960" y="630864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Genain S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2"/>
          <p:cNvSpPr/>
          <p:nvPr/>
        </p:nvSpPr>
        <p:spPr>
          <a:xfrm>
            <a:off x="4419720" y="346392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genetically identical Gen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sters suffer from schizophrenia. Two more than others, thus there are contributing environmental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3"/>
          <p:cNvSpPr/>
          <p:nvPr/>
        </p:nvSpPr>
        <p:spPr>
          <a:xfrm rot="5400000">
            <a:off x="3587040" y="5477400"/>
            <a:ext cx="14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urtesy of Genain Fami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BCD4-DF91-4E86-9DAD-56E2CDACA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Warning Sig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arly warning signs of schizophrenia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36"/>
          <p:cNvSpPr/>
          <p:nvPr/>
        </p:nvSpPr>
        <p:spPr>
          <a:xfrm>
            <a:off x="1603440" y="3005280"/>
            <a:ext cx="6426000" cy="83808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Birth complications, oxygen deprivation and low-birth we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34"/>
          <p:cNvSpPr/>
          <p:nvPr/>
        </p:nvSpPr>
        <p:spPr>
          <a:xfrm>
            <a:off x="1081080" y="3005280"/>
            <a:ext cx="522360" cy="83808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31"/>
          <p:cNvSpPr/>
          <p:nvPr/>
        </p:nvSpPr>
        <p:spPr>
          <a:xfrm>
            <a:off x="1603440" y="3886200"/>
            <a:ext cx="6426000" cy="8208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hort attention span and poor muscle coord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29"/>
          <p:cNvSpPr/>
          <p:nvPr/>
        </p:nvSpPr>
        <p:spPr>
          <a:xfrm>
            <a:off x="1081080" y="3886200"/>
            <a:ext cx="522360" cy="8208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7"/>
          <p:cNvSpPr/>
          <p:nvPr/>
        </p:nvSpPr>
        <p:spPr>
          <a:xfrm>
            <a:off x="1603440" y="5843520"/>
            <a:ext cx="6426000" cy="4572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oor peer relations and solo p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6"/>
          <p:cNvSpPr/>
          <p:nvPr/>
        </p:nvSpPr>
        <p:spPr>
          <a:xfrm>
            <a:off x="1081080" y="5843520"/>
            <a:ext cx="522360" cy="4572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1603440" y="5343480"/>
            <a:ext cx="6426000" cy="4572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motional unpredict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4"/>
          <p:cNvSpPr/>
          <p:nvPr/>
        </p:nvSpPr>
        <p:spPr>
          <a:xfrm>
            <a:off x="1081080" y="5343480"/>
            <a:ext cx="522360" cy="4572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1603440" y="4749840"/>
            <a:ext cx="6426000" cy="5508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isruptive and withdrawn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1081080" y="4749840"/>
            <a:ext cx="522360" cy="55080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1603440" y="2438280"/>
            <a:ext cx="6426000" cy="53352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 mother’s long lasting schizophr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1081080" y="2438280"/>
            <a:ext cx="522360" cy="533520"/>
          </a:xfrm>
          <a:prstGeom prst="rect">
            <a:avLst/>
          </a:prstGeom>
          <a:solidFill>
            <a:srgbClr val="ad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1081080" y="2514600"/>
            <a:ext cx="522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22"/>
          <p:cNvSpPr/>
          <p:nvPr/>
        </p:nvSpPr>
        <p:spPr>
          <a:xfrm>
            <a:off x="1081080" y="6172200"/>
            <a:ext cx="522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23"/>
          <p:cNvSpPr/>
          <p:nvPr/>
        </p:nvSpPr>
        <p:spPr>
          <a:xfrm>
            <a:off x="1081080" y="2514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25"/>
          <p:cNvSpPr/>
          <p:nvPr/>
        </p:nvSpPr>
        <p:spPr>
          <a:xfrm>
            <a:off x="8029440" y="2514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55"/>
          <p:cNvSpPr/>
          <p:nvPr/>
        </p:nvSpPr>
        <p:spPr>
          <a:xfrm>
            <a:off x="1603440" y="2514600"/>
            <a:ext cx="642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56"/>
          <p:cNvSpPr/>
          <p:nvPr/>
        </p:nvSpPr>
        <p:spPr>
          <a:xfrm>
            <a:off x="1081080" y="304812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58"/>
          <p:cNvSpPr/>
          <p:nvPr/>
        </p:nvSpPr>
        <p:spPr>
          <a:xfrm>
            <a:off x="8029440" y="304812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60"/>
          <p:cNvSpPr/>
          <p:nvPr/>
        </p:nvSpPr>
        <p:spPr>
          <a:xfrm>
            <a:off x="1081080" y="388620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62"/>
          <p:cNvSpPr/>
          <p:nvPr/>
        </p:nvSpPr>
        <p:spPr>
          <a:xfrm>
            <a:off x="8029440" y="388620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64"/>
          <p:cNvSpPr/>
          <p:nvPr/>
        </p:nvSpPr>
        <p:spPr>
          <a:xfrm>
            <a:off x="1081080" y="4707000"/>
            <a:ext cx="0" cy="55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66"/>
          <p:cNvSpPr/>
          <p:nvPr/>
        </p:nvSpPr>
        <p:spPr>
          <a:xfrm>
            <a:off x="8029440" y="4707000"/>
            <a:ext cx="0" cy="55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68"/>
          <p:cNvSpPr/>
          <p:nvPr/>
        </p:nvSpPr>
        <p:spPr>
          <a:xfrm>
            <a:off x="1081080" y="52578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70"/>
          <p:cNvSpPr/>
          <p:nvPr/>
        </p:nvSpPr>
        <p:spPr>
          <a:xfrm>
            <a:off x="8029440" y="52578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72"/>
          <p:cNvSpPr/>
          <p:nvPr/>
        </p:nvSpPr>
        <p:spPr>
          <a:xfrm>
            <a:off x="1081080" y="57150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74"/>
          <p:cNvSpPr/>
          <p:nvPr/>
        </p:nvSpPr>
        <p:spPr>
          <a:xfrm>
            <a:off x="8029440" y="57150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76"/>
          <p:cNvSpPr/>
          <p:nvPr/>
        </p:nvSpPr>
        <p:spPr>
          <a:xfrm>
            <a:off x="1603440" y="6172200"/>
            <a:ext cx="642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D339-25E2-4549-B325-7653F4F00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ersonality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rsonality disorders are characterized by inflexible and enduring behavior patterns that impair social functioning. They are usually without anxiety, depression, or delu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4" descr="MyersPsy8e_16UN27"/>
          <p:cNvPicPr/>
          <p:nvPr/>
        </p:nvPicPr>
        <p:blipFill>
          <a:blip r:embed="rId1"/>
          <a:stretch/>
        </p:blipFill>
        <p:spPr>
          <a:xfrm>
            <a:off x="5160960" y="1600200"/>
            <a:ext cx="32828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636B-6F04-4077-B80B-D0B778F4E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ntisocial Personality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disorder in which the person (usually men) exhibits a lack of conscience for wrongdoing, even toward friends and family members. Formerly, this person was called a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sociopath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psycho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BC46-3B80-4B1C-A02A-9F0C12FA6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nderstanding Antisocial Personality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ike mood disorders and schizophrenia, antisocial personality disorder has biological and psychological reasons. Youngsters, before committing a crime, respond with lower levels of stress hormones than others do at their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4" descr="MyersPsy8e_fig"/>
          <p:cNvPicPr/>
          <p:nvPr/>
        </p:nvPicPr>
        <p:blipFill>
          <a:blip r:embed="rId1"/>
          <a:stretch/>
        </p:blipFill>
        <p:spPr>
          <a:xfrm>
            <a:off x="4648320" y="1913040"/>
            <a:ext cx="4114800" cy="40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C89A-620B-482F-8A68-C06B11EC8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nderstanding Antisocial Personality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T scans of 41 murderers revealed reduced activity in the frontal lobes. In a follow-up study repeat offenders had 11% less frontal lobe activity compared to normals (Raine et al., 1999; 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9" descr=""/>
          <p:cNvPicPr/>
          <p:nvPr/>
        </p:nvPicPr>
        <p:blipFill>
          <a:blip r:embed="rId1"/>
          <a:stretch/>
        </p:blipFill>
        <p:spPr>
          <a:xfrm>
            <a:off x="1866960" y="3720960"/>
            <a:ext cx="5376960" cy="27972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0"/>
          <p:cNvSpPr/>
          <p:nvPr/>
        </p:nvSpPr>
        <p:spPr>
          <a:xfrm>
            <a:off x="2604240" y="645624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5364000" y="646128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rde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2"/>
          <p:cNvSpPr/>
          <p:nvPr/>
        </p:nvSpPr>
        <p:spPr>
          <a:xfrm rot="5400000">
            <a:off x="6493680" y="5370480"/>
            <a:ext cx="1895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Adrian Raine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iversity of Southern Califor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BE97-F8A5-4362-9F4F-F9DB48D95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ajor Depressive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jor depressive disorder occurs when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sign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of depression last two weeks or more and are not caused by drugs or medical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133720" y="3886200"/>
            <a:ext cx="5562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ethargy and fat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eelings of worthles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oss of interest in family &amp;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oss of interest i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685960" y="3490920"/>
            <a:ext cx="3741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gn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4603-59A8-4643-9B93-395AE5591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nderstanding Antisocial Personality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likelihood that one will commit a crime doubles when childhood poverty is compounded with obstetrical complications (Raine et al., 1999; 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7" descr="MyersPsy8e_fig"/>
          <p:cNvPicPr/>
          <p:nvPr/>
        </p:nvPicPr>
        <p:blipFill>
          <a:blip r:embed="rId1"/>
          <a:stretch/>
        </p:blipFill>
        <p:spPr>
          <a:xfrm>
            <a:off x="2095560" y="3124080"/>
            <a:ext cx="4952880" cy="33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8A8E-7A8C-483E-9CAC-D415E221A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Rates of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5" descr="MyersPsy8e_Table"/>
          <p:cNvPicPr/>
          <p:nvPr/>
        </p:nvPicPr>
        <p:blipFill>
          <a:blip r:embed="rId1"/>
          <a:stretch/>
        </p:blipFill>
        <p:spPr>
          <a:xfrm>
            <a:off x="1585800" y="1523880"/>
            <a:ext cx="594360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B476-5121-4D66-B8E4-00ECB120D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Rates of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5" descr="MyersPsy8e_fig"/>
          <p:cNvPicPr/>
          <p:nvPr/>
        </p:nvPicPr>
        <p:blipFill>
          <a:blip r:embed="rId1"/>
          <a:stretch/>
        </p:blipFill>
        <p:spPr>
          <a:xfrm>
            <a:off x="1004760" y="2838600"/>
            <a:ext cx="7115400" cy="35812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"/>
          <p:cNvSpPr/>
          <p:nvPr/>
        </p:nvSpPr>
        <p:spPr>
          <a:xfrm>
            <a:off x="442800" y="1600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prevalence of psychological disorders during the previous year is shown below (WHO, 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AC99-32F9-4973-94E0-13DA8BB56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Risk and Protective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442800" y="1600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isk and protective factors for mental disorders (WHO, 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Picture 6" descr="MyersPsy8e_Table"/>
          <p:cNvPicPr/>
          <p:nvPr/>
        </p:nvPicPr>
        <p:blipFill>
          <a:blip r:embed="rId1"/>
          <a:stretch/>
        </p:blipFill>
        <p:spPr>
          <a:xfrm>
            <a:off x="900000" y="2917800"/>
            <a:ext cx="731520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12D9-5FF1-4279-9690-07CBB3F6E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Risk and Protective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6" descr="MyersPsy8e_Table"/>
          <p:cNvPicPr/>
          <p:nvPr/>
        </p:nvPicPr>
        <p:blipFill>
          <a:blip r:embed="rId1"/>
          <a:stretch/>
        </p:blipFill>
        <p:spPr>
          <a:xfrm>
            <a:off x="900000" y="1600200"/>
            <a:ext cx="7315200" cy="44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D3BB-EAF6-4B12-854A-04312F1E5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ysthymic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57360" y="1600200"/>
            <a:ext cx="7800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ysthymic disorder lies between a blue mood and major depressive disorder. It is a disorder characterized by daily depression lasting two years or m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"/>
          <p:cNvSpPr/>
          <p:nvPr/>
        </p:nvSpPr>
        <p:spPr>
          <a:xfrm>
            <a:off x="671400" y="4038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>
            <a:off x="671400" y="5559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671400" y="403848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1"/>
          <p:cNvSpPr/>
          <p:nvPr/>
        </p:nvSpPr>
        <p:spPr>
          <a:xfrm>
            <a:off x="8443800" y="403848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4557600" y="4038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3"/>
          <p:cNvSpPr/>
          <p:nvPr/>
        </p:nvSpPr>
        <p:spPr>
          <a:xfrm>
            <a:off x="671400" y="4724280"/>
            <a:ext cx="0" cy="835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8443800" y="4724280"/>
            <a:ext cx="0" cy="835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5"/>
          <p:cNvSpPr/>
          <p:nvPr/>
        </p:nvSpPr>
        <p:spPr>
          <a:xfrm>
            <a:off x="4557600" y="5559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19"/>
          <p:cNvGrpSpPr/>
          <p:nvPr/>
        </p:nvGrpSpPr>
        <p:grpSpPr>
          <a:xfrm>
            <a:off x="1400040" y="4114800"/>
            <a:ext cx="7010640" cy="1081080"/>
            <a:chOff x="1400040" y="4114800"/>
            <a:chExt cx="7010640" cy="1081080"/>
          </a:xfrm>
        </p:grpSpPr>
        <p:sp>
          <p:nvSpPr>
            <p:cNvPr id="87" name="AutoShape 17"/>
            <p:cNvSpPr/>
            <p:nvPr/>
          </p:nvSpPr>
          <p:spPr>
            <a:xfrm>
              <a:off x="1400040" y="4114800"/>
              <a:ext cx="7010640" cy="1081080"/>
            </a:xfrm>
            <a:custGeom>
              <a:avLst/>
              <a:gdLst>
                <a:gd name="textAreaLeft" fmla="*/ 0 w 7010640"/>
                <a:gd name="textAreaRight" fmla="*/ 7011000 w 701064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11" y="0"/>
                  </a:lnTo>
                  <a:lnTo>
                    <a:pt x="21600" y="10800"/>
                  </a:lnTo>
                  <a:lnTo>
                    <a:pt x="1861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5715000" y="4224240"/>
              <a:ext cx="2438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Palatino Linotype"/>
                </a:rPr>
                <a:t>Major Depress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Palatino Linotype"/>
                </a:rPr>
                <a:t>Dis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7"/>
            <p:cNvSpPr/>
            <p:nvPr/>
          </p:nvSpPr>
          <p:spPr>
            <a:xfrm>
              <a:off x="2057400" y="4224240"/>
              <a:ext cx="1143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Blu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Mo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6"/>
            <p:cNvSpPr/>
            <p:nvPr/>
          </p:nvSpPr>
          <p:spPr>
            <a:xfrm>
              <a:off x="3591000" y="4224240"/>
              <a:ext cx="1942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Dysthy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Dis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Oval 20"/>
          <p:cNvSpPr/>
          <p:nvPr/>
        </p:nvSpPr>
        <p:spPr>
          <a:xfrm>
            <a:off x="3824280" y="3930480"/>
            <a:ext cx="1454040" cy="145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96BF-F83B-4316-815A-9A2787EC0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ipolar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rmerly called manic-depressive disorder. An alternation between depression and mania signals bipolar dis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2"/>
          <p:cNvSpPr/>
          <p:nvPr/>
        </p:nvSpPr>
        <p:spPr>
          <a:xfrm>
            <a:off x="4557600" y="5869080"/>
            <a:ext cx="3886200" cy="45540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ultiple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4557600" y="5413320"/>
            <a:ext cx="3886200" cy="45576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yper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8"/>
          <p:cNvSpPr/>
          <p:nvPr/>
        </p:nvSpPr>
        <p:spPr>
          <a:xfrm>
            <a:off x="4557600" y="4957920"/>
            <a:ext cx="3886200" cy="45540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sire for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6"/>
          <p:cNvSpPr/>
          <p:nvPr/>
        </p:nvSpPr>
        <p:spPr>
          <a:xfrm>
            <a:off x="4557600" y="4438800"/>
            <a:ext cx="3886200" cy="51912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uph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4"/>
          <p:cNvSpPr/>
          <p:nvPr/>
        </p:nvSpPr>
        <p:spPr>
          <a:xfrm>
            <a:off x="4557600" y="3936960"/>
            <a:ext cx="3886200" cy="50184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3"/>
          <p:cNvSpPr/>
          <p:nvPr/>
        </p:nvSpPr>
        <p:spPr>
          <a:xfrm>
            <a:off x="4557600" y="3124080"/>
            <a:ext cx="3886200" cy="67788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anic Symp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4"/>
          <p:cNvSpPr/>
          <p:nvPr/>
        </p:nvSpPr>
        <p:spPr>
          <a:xfrm>
            <a:off x="671400" y="5869080"/>
            <a:ext cx="3886200" cy="455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lowness of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2"/>
          <p:cNvSpPr/>
          <p:nvPr/>
        </p:nvSpPr>
        <p:spPr>
          <a:xfrm>
            <a:off x="671400" y="5413320"/>
            <a:ext cx="3886200" cy="455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0"/>
          <p:cNvSpPr/>
          <p:nvPr/>
        </p:nvSpPr>
        <p:spPr>
          <a:xfrm>
            <a:off x="671400" y="4957920"/>
            <a:ext cx="3886200" cy="455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ability to make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8"/>
          <p:cNvSpPr/>
          <p:nvPr/>
        </p:nvSpPr>
        <p:spPr>
          <a:xfrm>
            <a:off x="671400" y="4438800"/>
            <a:ext cx="3886200" cy="51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ithdra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6"/>
          <p:cNvSpPr/>
          <p:nvPr/>
        </p:nvSpPr>
        <p:spPr>
          <a:xfrm>
            <a:off x="671400" y="3936960"/>
            <a:ext cx="3886200" cy="501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lo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5"/>
          <p:cNvSpPr/>
          <p:nvPr/>
        </p:nvSpPr>
        <p:spPr>
          <a:xfrm>
            <a:off x="671400" y="3124080"/>
            <a:ext cx="3886200" cy="677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pressive Symp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671400" y="320040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2"/>
          <p:cNvSpPr/>
          <p:nvPr/>
        </p:nvSpPr>
        <p:spPr>
          <a:xfrm>
            <a:off x="671400" y="626580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3"/>
          <p:cNvSpPr/>
          <p:nvPr/>
        </p:nvSpPr>
        <p:spPr>
          <a:xfrm>
            <a:off x="671400" y="3200400"/>
            <a:ext cx="0" cy="677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8443800" y="3200400"/>
            <a:ext cx="0" cy="677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671400" y="3878280"/>
            <a:ext cx="0" cy="501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0"/>
          <p:cNvSpPr/>
          <p:nvPr/>
        </p:nvSpPr>
        <p:spPr>
          <a:xfrm>
            <a:off x="8443800" y="3878280"/>
            <a:ext cx="0" cy="501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2"/>
          <p:cNvSpPr/>
          <p:nvPr/>
        </p:nvSpPr>
        <p:spPr>
          <a:xfrm>
            <a:off x="4557600" y="320040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4"/>
          <p:cNvSpPr/>
          <p:nvPr/>
        </p:nvSpPr>
        <p:spPr>
          <a:xfrm>
            <a:off x="671400" y="4379760"/>
            <a:ext cx="0" cy="519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76"/>
          <p:cNvSpPr/>
          <p:nvPr/>
        </p:nvSpPr>
        <p:spPr>
          <a:xfrm>
            <a:off x="8443800" y="4379760"/>
            <a:ext cx="0" cy="519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78"/>
          <p:cNvSpPr/>
          <p:nvPr/>
        </p:nvSpPr>
        <p:spPr>
          <a:xfrm>
            <a:off x="671400" y="4898880"/>
            <a:ext cx="0" cy="45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80"/>
          <p:cNvSpPr/>
          <p:nvPr/>
        </p:nvSpPr>
        <p:spPr>
          <a:xfrm>
            <a:off x="8443800" y="4898880"/>
            <a:ext cx="0" cy="45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2"/>
          <p:cNvSpPr/>
          <p:nvPr/>
        </p:nvSpPr>
        <p:spPr>
          <a:xfrm>
            <a:off x="671400" y="5354640"/>
            <a:ext cx="0" cy="45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84"/>
          <p:cNvSpPr/>
          <p:nvPr/>
        </p:nvSpPr>
        <p:spPr>
          <a:xfrm>
            <a:off x="8443800" y="5354640"/>
            <a:ext cx="0" cy="45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86"/>
          <p:cNvSpPr/>
          <p:nvPr/>
        </p:nvSpPr>
        <p:spPr>
          <a:xfrm>
            <a:off x="671400" y="5810400"/>
            <a:ext cx="0" cy="455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8"/>
          <p:cNvSpPr/>
          <p:nvPr/>
        </p:nvSpPr>
        <p:spPr>
          <a:xfrm>
            <a:off x="8443800" y="5810400"/>
            <a:ext cx="0" cy="455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90"/>
          <p:cNvSpPr/>
          <p:nvPr/>
        </p:nvSpPr>
        <p:spPr>
          <a:xfrm>
            <a:off x="4557600" y="626580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300B-9CCF-474A-AF58-922C965FD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ipolar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1"/>
          <p:cNvSpPr/>
          <p:nvPr/>
        </p:nvSpPr>
        <p:spPr>
          <a:xfrm>
            <a:off x="657360" y="1600200"/>
            <a:ext cx="7800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ny great writers, poets, and composers suffered from bipolar disorder. During their manic phase creativity surged, but not during their depressed ph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38"/>
          <p:cNvGrpSpPr/>
          <p:nvPr/>
        </p:nvGrpSpPr>
        <p:grpSpPr>
          <a:xfrm>
            <a:off x="685800" y="3657600"/>
            <a:ext cx="7772400" cy="2470680"/>
            <a:chOff x="685800" y="3657600"/>
            <a:chExt cx="7772400" cy="2470680"/>
          </a:xfrm>
        </p:grpSpPr>
        <p:pic>
          <p:nvPicPr>
            <p:cNvPr id="127" name="Picture 32" descr="MyersPsy8e_16UN17"/>
            <p:cNvPicPr/>
            <p:nvPr/>
          </p:nvPicPr>
          <p:blipFill>
            <a:blip r:embed="rId1"/>
            <a:stretch/>
          </p:blipFill>
          <p:spPr>
            <a:xfrm>
              <a:off x="685800" y="3657600"/>
              <a:ext cx="7772400" cy="21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34"/>
            <p:cNvSpPr/>
            <p:nvPr/>
          </p:nvSpPr>
          <p:spPr>
            <a:xfrm>
              <a:off x="848880" y="572760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Whitm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35"/>
            <p:cNvSpPr/>
            <p:nvPr/>
          </p:nvSpPr>
          <p:spPr>
            <a:xfrm>
              <a:off x="3096360" y="572940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Wolf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4984200" y="57294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Cleme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37"/>
            <p:cNvSpPr/>
            <p:nvPr/>
          </p:nvSpPr>
          <p:spPr>
            <a:xfrm>
              <a:off x="6798600" y="5729400"/>
              <a:ext cx="16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Hemingw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39"/>
          <p:cNvSpPr/>
          <p:nvPr/>
        </p:nvSpPr>
        <p:spPr>
          <a:xfrm rot="5400000">
            <a:off x="2016720" y="5170680"/>
            <a:ext cx="99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ettmann/ Corb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0"/>
          <p:cNvSpPr/>
          <p:nvPr/>
        </p:nvSpPr>
        <p:spPr>
          <a:xfrm rot="5400000">
            <a:off x="3293280" y="4681800"/>
            <a:ext cx="231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eorge C. Beresford/ Hulton Getty Pictures Libr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1"/>
          <p:cNvSpPr/>
          <p:nvPr/>
        </p:nvSpPr>
        <p:spPr>
          <a:xfrm rot="5400000">
            <a:off x="5878080" y="5032800"/>
            <a:ext cx="127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 Granger Coll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2"/>
          <p:cNvSpPr/>
          <p:nvPr/>
        </p:nvSpPr>
        <p:spPr>
          <a:xfrm rot="5400000">
            <a:off x="7449480" y="4646880"/>
            <a:ext cx="22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arl Theissen/ Hulton Getty Pictures Libra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354F-F5CC-4ADD-881D-4B4569554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xplaining Mood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nce depression is so prevalent worldwide, investigators want to develop a theory of depression that will suggest ways to treat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71400" y="333864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winsohn et al., (1985, 1995) note that a theory of depression should explain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371600" y="4572000"/>
            <a:ext cx="6372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ehavioral and cognitive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mmon causes of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E534-DA40-40DF-8BE0-813433D5D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ory of De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562120" y="1600200"/>
            <a:ext cx="3976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der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6" descr="MyersPsy8e_fig"/>
          <p:cNvPicPr/>
          <p:nvPr/>
        </p:nvPicPr>
        <p:blipFill>
          <a:blip r:embed="rId1"/>
          <a:stretch/>
        </p:blipFill>
        <p:spPr>
          <a:xfrm>
            <a:off x="447840" y="2927520"/>
            <a:ext cx="822960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0:32:17Z</dcterms:created>
  <dc:creator>HSU</dc:creator>
  <dc:description/>
  <dc:language>en-US</dc:language>
  <cp:lastModifiedBy>dpark</cp:lastModifiedBy>
  <dcterms:modified xsi:type="dcterms:W3CDTF">2010-04-29T18:21:05Z</dcterms:modified>
  <cp:revision>1242</cp:revision>
  <dc:subject/>
  <dc:title>Memory</dc:title>
</cp:coreProperties>
</file>